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E8D-1CF1-434E-B1BF-6D3A76A1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367-CAF5-4D10-A45B-150B731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FE6-2AFF-4EFC-9668-A3894461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7F0-3083-478E-8296-883505FF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E61-83A8-430F-948E-E7A95299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BC0-485C-4189-B7EA-D55D0A1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97F-A4A2-44C4-8ADF-E394AC88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F86-AA7E-468E-9964-0A57010D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31A-C31B-40D8-8478-9A253350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9B1-6498-48C6-838C-4BE3DE21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14A-6580-43D7-AD8F-03B7320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CF4-CD69-4986-AE66-F633C098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55E5-765C-4D18-8EBB-959D5BB73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0492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DAY AT THE 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5562720"/>
            <a:ext cx="3504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ten by Linda Mo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llustrated by Linda Mo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380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 always visit my Grandpa’s pigs when I go to the farm.  I think they like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45720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I feed the chickens every time I go to the farm.  The baby chicks are my favorit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38088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 like to play with the dogs on the farm.  They always run from me when I try to tickl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58:22Z</dcterms:created>
  <dc:creator>Patrick Mooney</dc:creator>
  <dc:description/>
  <dc:language>en-US</dc:language>
  <cp:lastModifiedBy>Patrick Mooney</cp:lastModifiedBy>
  <dcterms:modified xsi:type="dcterms:W3CDTF">2009-02-17T14:36:11Z</dcterms:modified>
  <cp:revision>5</cp:revision>
  <dc:subject/>
  <dc:title>Slide 1</dc:title>
</cp:coreProperties>
</file>